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2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E569-3439-4A73-9903-8C75429165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0177-A1C9-4389-A83F-7B9130CF653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611D-3958-4255-B0B5-439DEEE9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886-6D8E-45EE-8F09-2F7E8BDE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97F-55F0-4E64-AF6D-6D30B869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302-DEF2-440C-B13B-E576CD7C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AC3D-5780-4791-AC5D-FBF5516B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6186-D74B-484C-B1A7-A3EF4791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FA67-D0AD-44D0-92CF-453DC197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3AD6-ABF1-4E6C-9383-D63555AB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8ACC-2ECF-4D8C-858B-B1F5FDB5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A8CB-B4FB-4BA4-BF31-B5E1DB84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C2C7-C4E8-40AC-9C6E-09D6B6C5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6A7E-357F-44AF-9072-E3647CD7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75E2-89B9-45C0-BF31-B26A7676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3956-E57C-4F69-A6F9-0D0F148A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62B1-2B33-41DC-B7A0-138FD93C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2461-74AC-4585-B169-CEF6DE45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F4B5-D231-4733-AAB5-88210E55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125FE-1773-41F6-8052-74569D9C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EA551-8B54-419C-83E1-8667D18C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12EEA-7BF3-4F28-B503-79732AA9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425A4-DCBB-42EA-A497-E6597C11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E10D-CF68-4A0C-A79D-0E6F21C5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0A6-FA39-4072-9F8B-3D1CFAB6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C4525-105A-440C-8497-375427F1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CC1B4-D1A8-47FB-B20F-B1E8687E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9FD1A-307F-4C9A-AA08-93B29589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18688-A784-46AB-A620-20414D62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F65B1-622C-4E8C-8972-35B0E880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679D5-3B31-4E4C-8A7C-816A444B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A10DC-4447-4095-A9B0-55B0436F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F97E8-65C3-439F-8A88-598494BD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D339A-6201-4873-9F89-370BAAD4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5EF22-E56E-4A7A-A219-BC6E3EAD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4AE-AD59-41F2-9856-39B69B86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509D4-9EEA-4114-80DE-BBF9E1F8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2BBA9-423D-4065-B604-17CF018C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F7C32-A7C8-4E28-B31A-6D4A4626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99004-D69B-4E53-96BC-379136BF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BEAE7-4C49-4E3F-B333-EFA465BA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196B3-C3DD-4DB2-AB92-70A54E8C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90723-4DEE-4871-BA87-0678911F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F3AC9-E65F-4026-B08A-447AAA25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DF893-1705-4D70-AF5E-F8997AFC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1DCE9-83FE-467E-87E8-E905AEC3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072D-FE67-42C4-801E-CB49E0CB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852A7-C9AE-48DF-8623-D3388C8C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74311-8EA6-4C06-A74E-C908D6A2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24D66-6BB3-4F21-8B42-2EACDF13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85C65-B5F5-4A5A-8EF0-C7525EB8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EAB9E-E9DD-4C19-A1CC-E60D1686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D134C-75B9-4D0E-9F34-7B4F2152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25198-1A45-46C2-8782-4929CA38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89DA5-A547-46D9-8FBB-BFC9540F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DCD6C-F90F-4494-BE52-E851A5E8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65C4B-F7AD-4CFF-B318-1480D427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E77-7AF0-44E9-92E0-90B0DA25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C91D8-CC47-4190-9E52-26B9E8F4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34D88-B09A-48B3-BB97-4CFEE9AF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2FAC3-1768-4CB7-AA2A-4749C071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D14F9-7891-4920-84CF-66468333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79F4E-8754-41F7-9C66-8BEA7EC4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83C49-9156-45E3-BF9B-F7DDC2E7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8AF06-BA8D-40EC-8458-18D063B9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7235F-C0E1-4A6D-A7A9-225CA872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2E371-9127-4414-BC1A-96201813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6CDEB-4DDA-427F-8B2C-F5819C7E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B01-4ADC-40BF-9380-4C4E273A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B7C76-EC2B-4451-96AC-3F65EB7C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CEDC6-1BC7-4438-9E8D-E549D584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67812-88D0-43C2-B40D-2298AB2D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B57B-02DC-4ADF-A9AF-449E4437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43DA-4879-4A4C-9602-3D634978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E41F-4F46-48E8-A60E-0E70C6B94730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C7C3-1F9F-433D-9875-C3AAE02B38DC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7C0E-90B2-4DFE-B2C5-56A91C95ED6C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E1B7-F5F7-4C83-B1A9-6AFB1CD17D63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186A-D99E-4165-9C24-59216256FE29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58C5-1AAD-47E6-ACF6-62D99F99306A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6880"/>
            <a:ext cx="6991200" cy="2438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oi, j’a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oi, j’ad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https://encrypted-tbn1.google.com/images?q=tbn:ANd9GcSiK4b0fKH5o42k4I6n9uirI5q1qoMYNnLEUkRF1H5E2cYMXNtd"/>
          <p:cNvPicPr/>
          <p:nvPr/>
        </p:nvPicPr>
        <p:blipFill>
          <a:blip r:embed="rId2"/>
          <a:stretch/>
        </p:blipFill>
        <p:spPr>
          <a:xfrm>
            <a:off x="1981080" y="685800"/>
            <a:ext cx="22194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ffffff"/>
                </a:solidFill>
                <a:latin typeface="Franklin Gothic Book"/>
              </a:rPr>
              <a:t>Les verb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man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dessin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Content Placeholder 6" descr="http://t3.gstatic.com/images?q=tbn:ANd9GcShLp7ujqCnTaj9zMM-cgUm3NfzUajQ-R-vZpwJmZK2ozdi9OA4"/>
          <p:cNvPicPr/>
          <p:nvPr/>
        </p:nvPicPr>
        <p:blipFill>
          <a:blip r:embed="rId1"/>
          <a:stretch/>
        </p:blipFill>
        <p:spPr>
          <a:xfrm>
            <a:off x="1239840" y="25639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308" name="Content Placeholder 7" descr="http://t0.gstatic.com/images?q=tbn:ANd9GcRq97lBt5rsmA_qAiHMT2oDdPrciOPiFGBxRPE0Ckj_zXuljyTr"/>
          <p:cNvPicPr/>
          <p:nvPr/>
        </p:nvPicPr>
        <p:blipFill>
          <a:blip r:embed="rId2"/>
          <a:stretch/>
        </p:blipFill>
        <p:spPr>
          <a:xfrm>
            <a:off x="5380200" y="2598840"/>
            <a:ext cx="257148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i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7960" y="20570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écouter de la musiq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Content Placeholder 6" descr="http://t2.gstatic.com/images?q=tbn:ANd9GcThuJzY5jRGb9jo-fKHrzW1iicOBhquBcN9u8y4-OifrpxoG2xEGA"/>
          <p:cNvPicPr/>
          <p:nvPr/>
        </p:nvPicPr>
        <p:blipFill>
          <a:blip r:embed="rId1"/>
          <a:stretch/>
        </p:blipFill>
        <p:spPr>
          <a:xfrm>
            <a:off x="1509840" y="230652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313" name="Content Placeholder 7" descr="http://t3.gstatic.com/images?q=tbn:ANd9GcT7LBc3OnahiTOP1A6hGQXTGyvJS7_wIkB1jGdJpYA6dF6MuwaV"/>
          <p:cNvPicPr/>
          <p:nvPr/>
        </p:nvPicPr>
        <p:blipFill>
          <a:blip r:embed="rId2"/>
          <a:stretch/>
        </p:blipFill>
        <p:spPr>
          <a:xfrm>
            <a:off x="5181480" y="3733920"/>
            <a:ext cx="27338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téléphoner (à des ami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chant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Content Placeholder 6" descr="http://t3.gstatic.com/images?q=tbn:ANd9GcQvZ6v9SSrdh-UE7AypgoHwfnL455OQGb4CVExP4mMYcqD1FtLO"/>
          <p:cNvPicPr/>
          <p:nvPr/>
        </p:nvPicPr>
        <p:blipFill>
          <a:blip r:embed="rId1"/>
          <a:stretch/>
        </p:blipFill>
        <p:spPr>
          <a:xfrm>
            <a:off x="1295280" y="358128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318" name="Content Placeholder 7" descr="http://t0.gstatic.com/images?q=tbn:ANd9GcTa1oogNHt1JeHFdSh1KDvXoOcbdNQvao7NOPTWf7_vrIFhoUp4"/>
          <p:cNvPicPr/>
          <p:nvPr/>
        </p:nvPicPr>
        <p:blipFill>
          <a:blip r:embed="rId2"/>
          <a:stretch/>
        </p:blipFill>
        <p:spPr>
          <a:xfrm>
            <a:off x="5029200" y="3505320"/>
            <a:ext cx="32288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surfer l’Int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envoyer un e-m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Content Placeholder 6" descr="http://t1.gstatic.com/images?q=tbn:ANd9GcSnrZqXsWH6CG_TCMO8jVVCBFaOjZHX8LPYdZeEFWSUrTxfBpQxOg"/>
          <p:cNvPicPr/>
          <p:nvPr/>
        </p:nvPicPr>
        <p:blipFill>
          <a:blip r:embed="rId1"/>
          <a:stretch/>
        </p:blipFill>
        <p:spPr>
          <a:xfrm>
            <a:off x="1373040" y="2455920"/>
            <a:ext cx="2210040" cy="2066760"/>
          </a:xfrm>
          <a:prstGeom prst="rect">
            <a:avLst/>
          </a:prstGeom>
          <a:ln w="0">
            <a:noFill/>
          </a:ln>
        </p:spPr>
      </p:pic>
      <p:pic>
        <p:nvPicPr>
          <p:cNvPr id="323" name="Content Placeholder 7" descr="http://t0.gstatic.com/images?q=tbn:ANd9GcQ3PXp8JqnzU8M43ldq9gClpOaWo_rqnDjO6432N78rGkbvXrO8"/>
          <p:cNvPicPr/>
          <p:nvPr/>
        </p:nvPicPr>
        <p:blipFill>
          <a:blip r:embed="rId2"/>
          <a:stretch/>
        </p:blipFill>
        <p:spPr>
          <a:xfrm>
            <a:off x="5370480" y="2608200"/>
            <a:ext cx="25909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envoyer un SMS/un tex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dorm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Content Placeholder 6" descr="http://t1.gstatic.com/images?q=tbn:ANd9GcRhichO9uWujHmhWebhEHTJfk3hUy2J-4gfIHj_cxEQTlIG5O85"/>
          <p:cNvPicPr/>
          <p:nvPr/>
        </p:nvPicPr>
        <p:blipFill>
          <a:blip r:embed="rId1"/>
          <a:stretch/>
        </p:blipFill>
        <p:spPr>
          <a:xfrm>
            <a:off x="1192320" y="2602080"/>
            <a:ext cx="2571480" cy="1771560"/>
          </a:xfrm>
          <a:prstGeom prst="rect">
            <a:avLst/>
          </a:prstGeom>
          <a:ln w="0">
            <a:noFill/>
          </a:ln>
        </p:spPr>
      </p:pic>
      <p:pic>
        <p:nvPicPr>
          <p:cNvPr id="328" name="Content Placeholder 7" descr="http://t3.gstatic.com/images?q=tbn:ANd9GcTxJi5rUKzyWDGWlDhwoFe1-m2U8CC41a531WPtudyEKyyH0pl0"/>
          <p:cNvPicPr/>
          <p:nvPr/>
        </p:nvPicPr>
        <p:blipFill>
          <a:blip r:embed="rId2"/>
          <a:stretch/>
        </p:blipFill>
        <p:spPr>
          <a:xfrm>
            <a:off x="5394240" y="2589120"/>
            <a:ext cx="25434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étudi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parl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Content Placeholder 6" descr="http://www.annicksaudoyer.be/wp-content/2011/06/blocus.jpg"/>
          <p:cNvPicPr/>
          <p:nvPr/>
        </p:nvPicPr>
        <p:blipFill>
          <a:blip r:embed="rId1"/>
          <a:stretch/>
        </p:blipFill>
        <p:spPr>
          <a:xfrm>
            <a:off x="573120" y="1868400"/>
            <a:ext cx="3809880" cy="3238560"/>
          </a:xfrm>
          <a:prstGeom prst="rect">
            <a:avLst/>
          </a:prstGeom>
          <a:ln w="0">
            <a:noFill/>
          </a:ln>
        </p:spPr>
      </p:pic>
      <p:pic>
        <p:nvPicPr>
          <p:cNvPr id="333" name="Content Placeholder 7" descr="http://2.bp.blogspot.com/-vUNKTg5ZVPk/T2BQlatLkHI/AAAAAAAAA-w/uyLz8Qyy5E4/s1600/parler.jpg"/>
          <p:cNvPicPr/>
          <p:nvPr/>
        </p:nvPicPr>
        <p:blipFill>
          <a:blip r:embed="rId2"/>
          <a:stretch/>
        </p:blipFill>
        <p:spPr>
          <a:xfrm>
            <a:off x="5541840" y="2363760"/>
            <a:ext cx="22482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regarder la télé(phon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2400" spc="-1" strike="noStrike">
              <a:solidFill>
                <a:srgbClr val="6ea0b0"/>
              </a:solidFill>
              <a:latin typeface="Arial"/>
            </a:endParaRPr>
          </a:p>
        </p:txBody>
      </p:sp>
      <p:pic>
        <p:nvPicPr>
          <p:cNvPr id="337" name="Content Placeholder 6" descr="http://t3.gstatic.com/images?q=tbn:ANd9GcTmbHSINo4xd567p_N_3DJLgQhxGq1ja4TsTWwRjjd5ZId8Toj0"/>
          <p:cNvPicPr/>
          <p:nvPr/>
        </p:nvPicPr>
        <p:blipFill>
          <a:blip r:embed="rId1"/>
          <a:stretch/>
        </p:blipFill>
        <p:spPr>
          <a:xfrm>
            <a:off x="1338120" y="2484360"/>
            <a:ext cx="2276640" cy="20098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644720" y="151740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ffffff"/>
                </a:solidFill>
                <a:latin typeface="Franklin Gothic Book"/>
              </a:rPr>
              <a:t>Les obje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e chocolat  (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es frites (f p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Content Placeholder 7" descr="https://encrypted-tbn2.google.com/images?q=tbn:ANd9GcSU0wJLW2qGybV6QwrFuZJXl6dwI0bz7Qw-1yolwY3Yn5bJnERF"/>
          <p:cNvPicPr/>
          <p:nvPr/>
        </p:nvPicPr>
        <p:blipFill>
          <a:blip r:embed="rId1"/>
          <a:stretch/>
        </p:blipFill>
        <p:spPr>
          <a:xfrm>
            <a:off x="762120" y="2743200"/>
            <a:ext cx="2833560" cy="2668680"/>
          </a:xfrm>
          <a:prstGeom prst="rect">
            <a:avLst/>
          </a:prstGeom>
          <a:ln w="0">
            <a:noFill/>
          </a:ln>
        </p:spPr>
      </p:pic>
      <p:pic>
        <p:nvPicPr>
          <p:cNvPr id="268" name="Content Placeholder 8" descr="https://encrypted-tbn3.google.com/images?q=tbn:ANd9GcQ96StebENoFRAgG-Xg7n4klArneu0uC5rpxp4kwaz0utX0FE7hXw"/>
          <p:cNvPicPr/>
          <p:nvPr/>
        </p:nvPicPr>
        <p:blipFill>
          <a:blip r:embed="rId2"/>
          <a:stretch/>
        </p:blipFill>
        <p:spPr>
          <a:xfrm>
            <a:off x="5334120" y="2971800"/>
            <a:ext cx="27208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a glace (f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Un des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Content Placeholder 6" descr="https://encrypted-tbn3.google.com/images?q=tbn:ANd9GcQ90kQK0WAkmU8yMHHRb6mvKExY7yYpAiZ6ZExu8LaSaCsZ9KRWhQ"/>
          <p:cNvPicPr/>
          <p:nvPr/>
        </p:nvPicPr>
        <p:blipFill>
          <a:blip r:embed="rId1"/>
          <a:stretch/>
        </p:blipFill>
        <p:spPr>
          <a:xfrm>
            <a:off x="990720" y="2514600"/>
            <a:ext cx="2923920" cy="2590920"/>
          </a:xfrm>
          <a:prstGeom prst="rect">
            <a:avLst/>
          </a:prstGeom>
          <a:ln w="0">
            <a:noFill/>
          </a:ln>
        </p:spPr>
      </p:pic>
      <p:pic>
        <p:nvPicPr>
          <p:cNvPr id="273" name="Content Placeholder 7" descr="https://encrypted-tbn1.google.com/images?q=tbn:ANd9GcRbIFmQGhG5euAfnAz1ku06keNpdzKeMBf7PzygO8lPp5G-h8F-oA"/>
          <p:cNvPicPr/>
          <p:nvPr/>
        </p:nvPicPr>
        <p:blipFill>
          <a:blip r:embed="rId2"/>
          <a:stretch/>
        </p:blipFill>
        <p:spPr>
          <a:xfrm>
            <a:off x="5656320" y="2354400"/>
            <a:ext cx="20192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’école (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e journal (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Content Placeholder 6" descr="https://encrypted-tbn0.google.com/images?q=tbn:ANd9GcSll70Ep4QGDRHRPRKoeA3gLb1r4qjFN1wnvJxEVCpiIUhd6YQL"/>
          <p:cNvPicPr/>
          <p:nvPr/>
        </p:nvPicPr>
        <p:blipFill>
          <a:blip r:embed="rId1"/>
          <a:stretch/>
        </p:blipFill>
        <p:spPr>
          <a:xfrm>
            <a:off x="1066680" y="2895480"/>
            <a:ext cx="2795760" cy="2256120"/>
          </a:xfrm>
          <a:prstGeom prst="rect">
            <a:avLst/>
          </a:prstGeom>
          <a:ln w="0">
            <a:noFill/>
          </a:ln>
        </p:spPr>
      </p:pic>
      <p:pic>
        <p:nvPicPr>
          <p:cNvPr id="278" name="Content Placeholder 7" descr="https://encrypted-tbn1.google.com/images?q=tbn:ANd9GcRpDxbGpMTNLYjF-hosFo99BomEB-9AE2uSnQkbm3iyAmeLGIkN"/>
          <p:cNvPicPr/>
          <p:nvPr/>
        </p:nvPicPr>
        <p:blipFill>
          <a:blip r:embed="rId2"/>
          <a:stretch/>
        </p:blipFill>
        <p:spPr>
          <a:xfrm>
            <a:off x="5775480" y="2590920"/>
            <a:ext cx="230184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e rom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7960" y="5181120"/>
            <a:ext cx="4041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e baladeur (m)/Les écouteurs (m p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Content Placeholder 6" descr="http://www.technobuffalo.com/wp-content/uploads/2012/05/harry-potter-and-the-sorcerers-stone.jpg"/>
          <p:cNvPicPr/>
          <p:nvPr/>
        </p:nvPicPr>
        <p:blipFill>
          <a:blip r:embed="rId1"/>
          <a:stretch/>
        </p:blipFill>
        <p:spPr>
          <a:xfrm>
            <a:off x="1049400" y="205884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283" name="Content Placeholder 7" descr="https://encrypted-tbn2.google.com/images?q=tbn:ANd9GcT-NdzlA9MkOumP8spN9s_cFKGUYapYiuCSFR0W8bZ_BazzYkcEag"/>
          <p:cNvPicPr/>
          <p:nvPr/>
        </p:nvPicPr>
        <p:blipFill>
          <a:blip r:embed="rId2"/>
          <a:stretch/>
        </p:blipFill>
        <p:spPr>
          <a:xfrm>
            <a:off x="5562720" y="2133720"/>
            <a:ext cx="250164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ea0b0"/>
                </a:solidFill>
                <a:latin typeface="Arial"/>
              </a:rPr>
              <a:t>La musique moder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a musique classiq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Content Placeholder 6" descr="https://encrypted-tbn2.google.com/images?q=tbn:ANd9GcTTELGoO5JL7VADd18FPdYcH9p3Qxd__3DGqIl5V7xTQnu-7EyWbw"/>
          <p:cNvPicPr/>
          <p:nvPr/>
        </p:nvPicPr>
        <p:blipFill>
          <a:blip r:embed="rId1"/>
          <a:stretch/>
        </p:blipFill>
        <p:spPr>
          <a:xfrm>
            <a:off x="1228680" y="2550960"/>
            <a:ext cx="2962440" cy="2554560"/>
          </a:xfrm>
          <a:prstGeom prst="rect">
            <a:avLst/>
          </a:prstGeom>
          <a:ln w="0">
            <a:noFill/>
          </a:ln>
        </p:spPr>
      </p:pic>
      <p:pic>
        <p:nvPicPr>
          <p:cNvPr id="288" name="Content Placeholder 7" descr="https://encrypted-tbn1.google.com/images?q=tbn:ANd9GcQlrgujfnd2Ie9Jrl3PBsbu0iTyxfydsHoXFvIpt_aIX3l_It6JTA"/>
          <p:cNvPicPr/>
          <p:nvPr/>
        </p:nvPicPr>
        <p:blipFill>
          <a:blip r:embed="rId2"/>
          <a:stretch/>
        </p:blipFill>
        <p:spPr>
          <a:xfrm>
            <a:off x="5584680" y="2362320"/>
            <a:ext cx="272124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ffffff"/>
                </a:solidFill>
                <a:latin typeface="Franklin Gothic Book"/>
              </a:rPr>
              <a:t>Les matières à l’éco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es mathématiq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es math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e frança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Content Placeholder 6" descr="http://t1.gstatic.com/images?q=tbn:ANd9GcRyawfqnjsojGeP8Yk2R7AemG0wHSzIQlNzRz8IxSmNedcr3anB"/>
          <p:cNvPicPr/>
          <p:nvPr/>
        </p:nvPicPr>
        <p:blipFill>
          <a:blip r:embed="rId1"/>
          <a:stretch/>
        </p:blipFill>
        <p:spPr>
          <a:xfrm>
            <a:off x="1090440" y="2666880"/>
            <a:ext cx="2948040" cy="2306880"/>
          </a:xfrm>
          <a:prstGeom prst="rect">
            <a:avLst/>
          </a:prstGeom>
          <a:ln w="0">
            <a:noFill/>
          </a:ln>
        </p:spPr>
      </p:pic>
      <p:pic>
        <p:nvPicPr>
          <p:cNvPr id="293" name="Content Placeholder 7" descr="http://u2.u-strasbg.fr/spiral/A1A2/Drapeaux/drapeau%20fran%E7ais%20ventbis.gif"/>
          <p:cNvPicPr/>
          <p:nvPr/>
        </p:nvPicPr>
        <p:blipFill>
          <a:blip r:embed="rId2"/>
          <a:stretch/>
        </p:blipFill>
        <p:spPr>
          <a:xfrm>
            <a:off x="5181480" y="2514600"/>
            <a:ext cx="27781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’anglais (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es scienc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Content Placeholder 6" descr="https://encrypted-tbn2.google.com/images?q=tbn:ANd9GcTWcsopk7Jwh2BCLtS5yxqEJjlO_HYcXNXsYAu_XoF_b8PGZSo1"/>
          <p:cNvPicPr/>
          <p:nvPr/>
        </p:nvPicPr>
        <p:blipFill>
          <a:blip r:embed="rId1"/>
          <a:stretch/>
        </p:blipFill>
        <p:spPr>
          <a:xfrm>
            <a:off x="914400" y="2438280"/>
            <a:ext cx="3124080" cy="2533680"/>
          </a:xfrm>
          <a:prstGeom prst="rect">
            <a:avLst/>
          </a:prstGeom>
          <a:ln w="0">
            <a:noFill/>
          </a:ln>
        </p:spPr>
      </p:pic>
      <p:pic>
        <p:nvPicPr>
          <p:cNvPr id="298" name="Content Placeholder 7" descr="https://encrypted-tbn2.google.com/images?q=tbn:ANd9GcRM8o-U_vHTgVbx0CBv1Q6sCu_psJ8alZbaTli1Z-yNqdQxTXxl"/>
          <p:cNvPicPr/>
          <p:nvPr/>
        </p:nvPicPr>
        <p:blipFill>
          <a:blip r:embed="rId2"/>
          <a:stretch/>
        </p:blipFill>
        <p:spPr>
          <a:xfrm>
            <a:off x="5560920" y="2895480"/>
            <a:ext cx="26686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’histoire (f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2400" spc="-1" strike="noStrike">
              <a:solidFill>
                <a:srgbClr val="6ea0b0"/>
              </a:solidFill>
              <a:latin typeface="Arial"/>
            </a:endParaRPr>
          </a:p>
        </p:txBody>
      </p:sp>
      <p:pic>
        <p:nvPicPr>
          <p:cNvPr id="302" name="Content Placeholder 6" descr="https://encrypted-tbn3.google.com/images?q=tbn:ANd9GcS7fpC6qpyL47RCp3Uh4j0bz0keAaMPcc_31qeMwqgNXHUYeWB83g"/>
          <p:cNvPicPr/>
          <p:nvPr/>
        </p:nvPicPr>
        <p:blipFill>
          <a:blip r:embed="rId1"/>
          <a:stretch/>
        </p:blipFill>
        <p:spPr>
          <a:xfrm>
            <a:off x="1424160" y="2401920"/>
            <a:ext cx="2104920" cy="21715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4644720" y="151740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14:20:16Z</dcterms:created>
  <dc:creator>Robbie</dc:creator>
  <dc:description/>
  <dc:language>en-US</dc:language>
  <cp:lastModifiedBy>Robbie</cp:lastModifiedBy>
  <dcterms:modified xsi:type="dcterms:W3CDTF">2012-09-16T15:03:14Z</dcterms:modified>
  <cp:revision>1</cp:revision>
  <dc:subject/>
  <dc:title>Qu’est-ce que tu aimes?</dc:title>
</cp:coreProperties>
</file>